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9CC3-58A1-475C-8287-9D4EC65A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C4E-0336-4B05-AD58-9F981231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2D3-9788-460D-89E3-86950173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91C-36FF-4507-925F-A1E86E69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23B3-CD5D-4B0C-8AEF-3C8C013B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FE42-81C6-44B2-8888-261AE22F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4164-2145-41A6-BAE1-96B6F015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A1EA-CED3-4643-BF91-09CE943F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818E-1B81-4905-9F95-62E6789D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A8E5-DC4E-448A-86E2-DC7F4523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A430-1DAB-49CD-9E60-63CAA88A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B0F3-FEC5-46D9-B0FC-06411AB2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4C9C-E0B2-4869-8BF9-3B0DF7E4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E1B1-2AB7-49A9-AA18-ECE3DCFF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7C11-575F-4B78-BD4E-C63A7C4A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1BEF-F9A3-4D67-B54B-103CFF0A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B019-94EB-4E85-A994-855BD1D1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700-3AA1-4868-AE2F-11B37593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CFB-0FB8-4AF3-8F19-97A19539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6C1-3347-4963-9B4B-2F3D9826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3C8-DDA6-4645-80EF-3F5CB551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264-CFC8-4FD9-98B8-8704FC04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88C-683E-474D-8302-2CF075A8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762F-9CFF-410F-B26E-FE1A87E1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9FDD-0989-41C0-A076-30E89552480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7EEF-5484-4A12-A152-75E5161D66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SOL in U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is learning ESO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uge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ylum seek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ently arrived immigr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uropean Union (work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 term UK resid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51055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Huge range in ESOL classes in terms of educational background, life experience and motivations for learning.  In one class you might find a doctor, a factory worker and a stay-at-home Mu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are they learning ESO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rther Education colleges (also ‘outreach centres’ – ‘in the community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ult Education cent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s (Family Learn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vate institu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they learn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SOL curriculum in dedicated ESOL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ve levels:  Entry 1,2 and 3.  Level 1 and 2 (level 2 is GCSE equivalen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SOL embedded in content curriculum (e.g. engineering, childcare, beauty therapy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ttp://www.youtube.com/watch?v=KB950QpD7G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is fund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7280" y="2438280"/>
            <a:ext cx="822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K government through ‘Skills for Life’ (Df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3733920"/>
            <a:ext cx="7696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99"/>
                </a:solidFill>
                <a:latin typeface="Arial"/>
              </a:rPr>
              <a:t>Who is teaching the student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s with a generic PGCE/Cert Ed. in PCET (Post-compulsory education and training) and an ESOL Certificate at Level 4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s with an integrated PGCE in PCET/ESO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k at the table that shows what students need to know/be able to do at different levels in listening.  Some sections have been removed.  Replace the sect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962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2.      Look at the texts used with students of ESOL.  What                                   level do you think this work is set a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9528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  Imagine you are a teacher working with these texts.  Choose one and design two activities that you feel would be suitable to help students either to understand these texts or to produce similar tex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e Study of an Embedded Cla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the text and answer the ques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2-01T10:15:4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